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428AAD-4BEA-4FF8-B976-30799A669AAB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2367C0-D38D-44DE-8EE0-6815A9C99A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49534-B007-4D73-A94A-E935A6899C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DD01-B92B-4954-87D9-072F61662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F115-8E1D-4E47-97C6-1DAA2C55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E6E3-1AE0-4C12-9E81-C785A813A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C416-4E62-48CC-9501-30EF0B11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2975-5E51-4D5F-A891-FBD3BB388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33051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4300560"/>
            <a:ext cx="264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B836-222D-45DD-8AA8-8D27FC7C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5DA8-9D3F-4708-803D-F0671BF9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CF4A-5B11-4AE9-BB7C-FD5BD193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979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AA0-0599-40EF-B8B2-A2EB3FC45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E11-1172-4657-A836-D96523FE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3005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982-6C67-4B4B-9D5F-69ADB2F5F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305160"/>
            <a:ext cx="40158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300560"/>
            <a:ext cx="8229600" cy="9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6AAE-C796-4F30-BC65-4A773CDCC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F17A27-CA13-410D-AEA0-DC424351A46C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A7191E-6352-480B-AF8B-703DF16CE6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330516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4080" indent="-128520">
              <a:spcBef>
                <a:spcPts val="799"/>
              </a:spcBef>
              <a:buClr>
                <a:srgbClr val="000000"/>
              </a:buClr>
              <a:buFont typeface="ZapfDingbat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514080" indent="-102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720000" indent="-10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925560" indent="-102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1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Journée Thématique </a:t>
            </a:r>
            <a:br>
              <a:rPr sz="5400"/>
            </a:br>
            <a:r>
              <a:rPr b="1" lang="fr-FR" sz="5400" spc="-1" strike="noStrike">
                <a:solidFill>
                  <a:srgbClr val="1f497d"/>
                </a:solidFill>
                <a:latin typeface="Calibri"/>
              </a:rPr>
              <a:t>Fibres Optique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3638160"/>
            <a:ext cx="8229600" cy="304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organisée par le COMET Optique et Optoélectronique (COMET OOE) du CN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Toulo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28 Juin 202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89" name="Image 2" descr=""/>
          <p:cNvPicPr/>
          <p:nvPr/>
        </p:nvPicPr>
        <p:blipFill>
          <a:blip r:embed="rId2"/>
          <a:stretch/>
        </p:blipFill>
        <p:spPr>
          <a:xfrm>
            <a:off x="7702560" y="8244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65440" y="88884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008240" y="1517400"/>
            <a:ext cx="1127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4465440" y="220320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312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Calibri"/>
              </a:rPr>
              <a:t>COMET Optique OptoElectroniqu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2719440"/>
            <a:ext cx="85438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98360" y="17316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97" name="Image 2" descr=""/>
          <p:cNvPicPr/>
          <p:nvPr/>
        </p:nvPicPr>
        <p:blipFill>
          <a:blip r:embed="rId2"/>
          <a:stretch/>
        </p:blipFill>
        <p:spPr>
          <a:xfrm>
            <a:off x="7702560" y="115920"/>
            <a:ext cx="1441440" cy="1081080"/>
          </a:xfrm>
          <a:prstGeom prst="rect">
            <a:avLst/>
          </a:prstGeom>
          <a:ln w="0">
            <a:noFill/>
          </a:ln>
        </p:spPr>
      </p:pic>
      <p:pic>
        <p:nvPicPr>
          <p:cNvPr id="98" name="Image 7" descr=""/>
          <p:cNvPicPr/>
          <p:nvPr/>
        </p:nvPicPr>
        <p:blipFill>
          <a:blip r:embed="rId3"/>
          <a:stretch/>
        </p:blipFill>
        <p:spPr>
          <a:xfrm>
            <a:off x="600120" y="1442880"/>
            <a:ext cx="8024760" cy="517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1680" y="2171880"/>
            <a:ext cx="8835840" cy="27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1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416320" y="847800"/>
            <a:ext cx="402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Thématique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7"/>
          <p:cNvSpPr/>
          <p:nvPr/>
        </p:nvSpPr>
        <p:spPr>
          <a:xfrm>
            <a:off x="496800" y="4624560"/>
            <a:ext cx="7900920" cy="177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1f497d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tat de l’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Echanger sur les besoins et les sol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Comprendre  les contraintes et les limi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buClr>
                <a:srgbClr val="254061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Identifier des activités de R&amp;T fu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ZoneTexte 8"/>
          <p:cNvSpPr/>
          <p:nvPr/>
        </p:nvSpPr>
        <p:spPr>
          <a:xfrm>
            <a:off x="2589120" y="4152960"/>
            <a:ext cx="454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Objectifs de la journé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ZoneTexte 9"/>
          <p:cNvSpPr/>
          <p:nvPr/>
        </p:nvSpPr>
        <p:spPr>
          <a:xfrm>
            <a:off x="297000" y="1657440"/>
            <a:ext cx="8427960" cy="25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Solutions fibrées  pour  l’instrumentation et les capte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technologies fibrées pour les 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es fonctions de filtrage spectrale et de polarisation avec les technologies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fibr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601"/>
              </a:spcAft>
              <a:buClr>
                <a:srgbClr val="17375e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La qualification des solutions fibrées (connectique, thermique, tenue 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	</a:t>
            </a: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au flux laser, radiation…)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  <a:ea typeface="ヒラギノ角ゴ Pro W3"/>
              </a:rPr>
              <a:t> </a:t>
            </a:r>
            <a:br>
              <a:rPr sz="1800"/>
            </a:br>
            <a:r>
              <a:rPr b="1" lang="fr-FR" sz="1800" spc="-1" strike="noStrike">
                <a:solidFill>
                  <a:srgbClr val="00519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07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6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1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00160" y="1830240"/>
            <a:ext cx="81802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9h40 - 10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optiques et instrumentation : Quelles propriétés ? Pour quelles fonctions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?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Michel Lequime (Institut Fresn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2544840"/>
            <a:ext cx="8199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15 - 10h4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continu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181080" y="3327480"/>
            <a:ext cx="84247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0h50 - 11h2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Les technologies fibrées pour les lasers impulsionnels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Philippe Roy, Raphael Jamier (Xlim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0"/>
          <p:cNvSpPr/>
          <p:nvPr/>
        </p:nvSpPr>
        <p:spPr>
          <a:xfrm>
            <a:off x="181080" y="4051440"/>
            <a:ext cx="85550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1h25 - 11h5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Architectures et performances des amplificateurs optiques fibrés bas bruit en environnement spatial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rnaud Laurent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>
            <a:off x="200160" y="48117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2h00 Cocktail déjeunato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2"/>
          <p:cNvSpPr/>
          <p:nvPr/>
        </p:nvSpPr>
        <p:spPr>
          <a:xfrm>
            <a:off x="181080" y="131616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9h40 SESSION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Image 5" descr="Centre national d'études spatiales — Wikipédia"/>
          <p:cNvPicPr/>
          <p:nvPr/>
        </p:nvPicPr>
        <p:blipFill>
          <a:blip r:embed="rId1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16" name="Image 2" descr=""/>
          <p:cNvPicPr/>
          <p:nvPr/>
        </p:nvPicPr>
        <p:blipFill>
          <a:blip r:embed="rId2"/>
          <a:stretch/>
        </p:blipFill>
        <p:spPr>
          <a:xfrm>
            <a:off x="7659720" y="54000"/>
            <a:ext cx="1441440" cy="1081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5"/>
          <p:cNvSpPr/>
          <p:nvPr/>
        </p:nvSpPr>
        <p:spPr>
          <a:xfrm>
            <a:off x="2932200" y="363600"/>
            <a:ext cx="33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400" spc="-1" strike="noStrike">
                <a:solidFill>
                  <a:srgbClr val="17375e"/>
                </a:solidFill>
                <a:latin typeface="Arial"/>
              </a:rPr>
              <a:t>Programme final (2/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47680" y="781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3h30 SESSION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247680" y="1108080"/>
            <a:ext cx="834084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3h30 - 14h0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ente à base de fibres optiques sur l’instrument CO2M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A. Dussaux, J. Trastour, L. Francou, T. Viard (Thales Alenia Spa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247680" y="1778040"/>
            <a:ext cx="885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05 - 14h35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Développements fibrés à ALPhANOV et à Xlim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Julie Magri (Alphanov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22120" y="2295360"/>
            <a:ext cx="880452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4h40 - 15h10 :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Instrumentations par fibre optique développées au CEA List pour la mesure en environnement sévère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Guillaume Laffont (Laboratoire Systèmes et Photonique pour le Monitor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247680" y="3276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5h10 – 15h40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Pause Gourman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1"/>
          <p:cNvSpPr/>
          <p:nvPr/>
        </p:nvSpPr>
        <p:spPr>
          <a:xfrm>
            <a:off x="258840" y="3938760"/>
            <a:ext cx="880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5h40 - 16h1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Fibres polarisantes et fonctions de filtrage spectral à bande étroite par réseaux de Bragg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– Laurent Lablonde (Exai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222120" y="4289400"/>
            <a:ext cx="880452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6h10 - 16h40 : </a:t>
            </a:r>
            <a:r>
              <a:rPr b="1" i="1" lang="fr-FR" sz="1800" spc="-1" strike="noStrike">
                <a:solidFill>
                  <a:srgbClr val="000000"/>
                </a:solidFill>
                <a:latin typeface="Times New Roman"/>
              </a:rPr>
              <a:t>Panoramique sur la connectique et le câblage à fibre optique pour applications spatiales</a:t>
            </a:r>
            <a:r>
              <a:rPr b="0" i="1" lang="fr-FR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Gianandrea Quadri (CN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3"/>
          <p:cNvSpPr/>
          <p:nvPr/>
        </p:nvSpPr>
        <p:spPr>
          <a:xfrm>
            <a:off x="222120" y="5025960"/>
            <a:ext cx="87058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h40 - 17h10 :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ombined temperature and radiation effects on silica-based optical fibers : recent progresses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– Sylvain Girard (Laboratoire Hubert Curie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4"/>
          <p:cNvSpPr/>
          <p:nvPr/>
        </p:nvSpPr>
        <p:spPr>
          <a:xfrm>
            <a:off x="271440" y="578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17h10 - 17h20 : 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799920"/>
            <a:ext cx="5837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2800" spc="-1" strike="noStrike">
                <a:solidFill>
                  <a:srgbClr val="17375e"/>
                </a:solidFill>
                <a:latin typeface="Calibri"/>
              </a:rPr>
              <a:t>La fibre optique présente sur de nombreux dispositifs op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94920" y="1733040"/>
            <a:ext cx="6264360" cy="498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300"/>
              </a:spcBef>
              <a:buClr>
                <a:srgbClr val="ff0000"/>
              </a:buClr>
              <a:buSzPct val="20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Etalonnage de sondeurs</a:t>
            </a:r>
            <a:r>
              <a:rPr b="1" lang="en-GB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 atmosphériques  passif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enseurs quantique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Magnétomètre (SWAR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Instruments actifs d’analyse in situ (SUPERCAM CHEMCAM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Gyro à fi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</a:t>
            </a: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Pyro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Transport de signaux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erminaux optiques pour les télécommunicatio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Télémétrie et interférométrie las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ID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192960" indent="-191520">
              <a:lnSpc>
                <a:spcPct val="150000"/>
              </a:lnSpc>
              <a:spcBef>
                <a:spcPts val="4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Laser de puissanc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7139160" y="903240"/>
            <a:ext cx="1834920" cy="1260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7140600" y="2163600"/>
            <a:ext cx="1805040" cy="11923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3"/>
          <a:stretch/>
        </p:blipFill>
        <p:spPr>
          <a:xfrm>
            <a:off x="7147080" y="3355920"/>
            <a:ext cx="1807920" cy="1035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"/>
          <p:cNvPicPr/>
          <p:nvPr/>
        </p:nvPicPr>
        <p:blipFill>
          <a:blip r:embed="rId4"/>
          <a:stretch/>
        </p:blipFill>
        <p:spPr>
          <a:xfrm>
            <a:off x="7139160" y="5635800"/>
            <a:ext cx="1806480" cy="1112760"/>
          </a:xfrm>
          <a:prstGeom prst="rect">
            <a:avLst/>
          </a:prstGeom>
          <a:ln w="0">
            <a:noFill/>
          </a:ln>
        </p:spPr>
      </p:pic>
      <p:pic>
        <p:nvPicPr>
          <p:cNvPr id="133" name="Image 8" descr="Curiosity_P38542bd.jpg"/>
          <p:cNvPicPr/>
          <p:nvPr/>
        </p:nvPicPr>
        <p:blipFill>
          <a:blip r:embed="rId5"/>
          <a:srcRect l="0" t="0" r="17866" b="0"/>
          <a:stretch/>
        </p:blipFill>
        <p:spPr>
          <a:xfrm>
            <a:off x="7147080" y="4400640"/>
            <a:ext cx="1804680" cy="1235160"/>
          </a:xfrm>
          <a:prstGeom prst="rect">
            <a:avLst/>
          </a:prstGeom>
          <a:ln w="0">
            <a:noFill/>
          </a:ln>
        </p:spPr>
      </p:pic>
      <p:pic>
        <p:nvPicPr>
          <p:cNvPr id="134" name="Image 5" descr="Centre national d'études spatiales — Wikipédia"/>
          <p:cNvPicPr/>
          <p:nvPr/>
        </p:nvPicPr>
        <p:blipFill>
          <a:blip r:embed="rId6"/>
          <a:stretch/>
        </p:blipFill>
        <p:spPr>
          <a:xfrm>
            <a:off x="0" y="0"/>
            <a:ext cx="1130400" cy="966960"/>
          </a:xfrm>
          <a:prstGeom prst="rect">
            <a:avLst/>
          </a:prstGeom>
          <a:ln w="0">
            <a:noFill/>
          </a:ln>
        </p:spPr>
      </p:pic>
      <p:pic>
        <p:nvPicPr>
          <p:cNvPr id="135" name="Image 2" descr=""/>
          <p:cNvPicPr/>
          <p:nvPr/>
        </p:nvPicPr>
        <p:blipFill>
          <a:blip r:embed="rId7"/>
          <a:stretch/>
        </p:blipFill>
        <p:spPr>
          <a:xfrm>
            <a:off x="7951680" y="54000"/>
            <a:ext cx="1149480" cy="8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97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57200" y="3305160"/>
            <a:ext cx="822960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Image 3" descr="P42575.jpg"/>
          <p:cNvPicPr/>
          <p:nvPr/>
        </p:nvPicPr>
        <p:blipFill>
          <a:blip r:embed="rId2"/>
          <a:stretch/>
        </p:blipFill>
        <p:spPr>
          <a:xfrm>
            <a:off x="0" y="0"/>
            <a:ext cx="990612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4"/>
          <p:cNvSpPr/>
          <p:nvPr/>
        </p:nvSpPr>
        <p:spPr>
          <a:xfrm>
            <a:off x="2286000" y="2057400"/>
            <a:ext cx="58118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pour votre particip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Merci aux présentateu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Bon séminai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age 5" descr="Centre national d'études spatiales — Wikipédia"/>
          <p:cNvPicPr/>
          <p:nvPr/>
        </p:nvPicPr>
        <p:blipFill>
          <a:blip r:embed="rId3"/>
          <a:stretch/>
        </p:blipFill>
        <p:spPr>
          <a:xfrm>
            <a:off x="106200" y="111240"/>
            <a:ext cx="1130400" cy="966600"/>
          </a:xfrm>
          <a:prstGeom prst="rect">
            <a:avLst/>
          </a:prstGeom>
          <a:ln w="0">
            <a:noFill/>
          </a:ln>
        </p:spPr>
      </p:pic>
      <p:pic>
        <p:nvPicPr>
          <p:cNvPr id="141" name="Image 2" descr=""/>
          <p:cNvPicPr/>
          <p:nvPr/>
        </p:nvPicPr>
        <p:blipFill>
          <a:blip r:embed="rId4"/>
          <a:stretch/>
        </p:blipFill>
        <p:spPr>
          <a:xfrm>
            <a:off x="8373960" y="58680"/>
            <a:ext cx="144144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7:26:13Z</dcterms:created>
  <dc:creator>Sabine Allier</dc:creator>
  <dc:description/>
  <dc:language>en-US</dc:language>
  <cp:lastModifiedBy>Oudda Laure</cp:lastModifiedBy>
  <dcterms:modified xsi:type="dcterms:W3CDTF">2023-06-27T21:12:39Z</dcterms:modified>
  <cp:revision>84</cp:revision>
  <dc:subject/>
  <dc:title>Diapositive 1</dc:title>
</cp:coreProperties>
</file>